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316A8-BE19-43ED-9C50-E7F57E415639}"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8A58B-B62B-445A-889F-F74A221272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DE8DD-A8BA-4D12-97FC-6384F58AE9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93EC2-4ABC-492F-8E52-33699673F3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D3E30-C15C-44F4-934A-D34758559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404132-FDD1-4176-958D-583835AD51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296E3-F60C-4CB4-8BBD-08EFF92470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D4E4E-80C8-41AC-A9B7-D8437D77E6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37565-CD76-4A98-8CCD-6036F99A15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1B026-0CFC-4ABC-A7E6-003D66AF03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017CB-340A-443C-A2E4-DA28973210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4A7B5-B113-46D3-B903-D62DB83F49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674AD-6D49-421D-9139-B72ACEAC4B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4F2136-CFA1-4322-9EB8-CDCB8C351A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68F78-404F-4D23-95D0-0B17EF86AF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A5A62-7001-4A98-9A75-0F06B1A957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762C3-FAA7-494B-B9C1-87AB7B77DC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6FF21-824A-4FB7-A450-869A00F727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A7304-1D1D-463D-AFD1-039C82975B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ABB72-A056-470E-B412-95B04C07A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4F337-FBDF-4E0F-A73C-3FC47ADE5C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5B05B-CF3C-417F-8E8A-3963BFCB3F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D89EC-BC54-4467-8FD6-F53BA3B402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3B8BE-DBF4-46A7-A5A6-0861789132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346D9-EDB9-488A-965D-11AC9D9AC5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78A9A-43D6-42E9-BDF3-063C809DDA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660FC-CACD-4D0C-A80F-B955FD2012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89077-F589-4C61-8304-CADF4B8BD6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0FE37-8178-4969-887C-D614742101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AFC3D-2BB7-40E4-80A5-B174DDE007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94FE3-8AD7-4BB9-BEB8-BD6A3C6E38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94056-136D-4DC5-BC01-D4B13BF978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76D3B-B6C9-4D3A-81FA-0F475FA974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8EDA-F7DC-4F21-A91A-92A84656CD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8A85F-663D-417D-993F-90BBA57588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599CA-5ED7-423E-8C21-1355913CA3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73A97-9EC6-4219-B7EE-D619068CD9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E697B-20A1-46F6-AEED-B0E4D4B093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3DB6B-D48D-4A3C-80DC-AD9786469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EE7B5-08F3-4281-84B8-9CF0AF0A29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5EA0B-9C16-4884-94FA-B3C81078E2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6E7CA-DC4A-4C3E-8754-6BE8319503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67D5B-B026-49A7-9A6B-AB0BB8C4E7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38018-0BD6-4310-8F33-FC17CC884F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32569-301F-473B-963E-D497093250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23A73-6753-4B44-98EA-A5031E5213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54281-6976-4875-B440-00A6F08455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7390F-4E15-45DD-ACB4-2EBDDC6F4C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58668-174F-489A-B4A1-5E754523BD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B35C0-EE38-459B-BF55-EC0478DC73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50E22-159D-4DFF-B047-6AD8218F01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5C3DE-7E2A-42DB-B4D0-D091ED565B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ED871-8E9B-4B7C-9EC5-BBAF143DB6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52144-DF46-4E82-9527-99CF4362DC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92627-8333-4D66-B527-973BCC931A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89017-4365-419A-8D17-8063F83A8A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964C4-CE01-4110-9066-4C747EF4B6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1F909-89CF-4374-9099-382572FF93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06C9F-C31A-4620-B9CE-49F2FCAE93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BBAE8-2A38-42D4-837A-B5E0BDC8AF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24133-8DEF-4900-8D6A-0CD29B9DC0F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CB8E0-F0B9-4BB4-BB9F-DE140DC045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0A0D-7A77-4EBA-BF83-00C139C1BA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78C4D-DA68-43A5-9DD6-C0FBA97E81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58A2E-1389-4666-A691-FCC129DD0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9A42D-1537-405C-8241-9F1358D9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2D06E-7D47-4CC0-8110-B55D3C7BD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26490-5F1C-471F-8A21-9991139A6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F72BD-9913-4F0C-87DB-1AC550336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9F2B-0362-49B6-B6B8-EFEEC163E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7C3A0-EE59-42DF-9886-AFA0DAEE3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6CCD-51FB-4A53-B4F3-1DBDE88E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F1764-19C8-498B-B48C-4BA8D41F9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D9B9-64D4-42B2-A63C-C1275E41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62F7E-D82D-47F5-A849-654D3D60D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EC8C-E1D3-4798-87FB-578026F1C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67313-67E3-4639-942E-773AFBB121E5}"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BE9F3-4D43-4F77-B497-8E2728BADC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D14648-DCE0-4D55-A929-9C352CCC1B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EA242-6FFE-4F54-B6D5-3A41C5EF26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11CBD9-29CB-4DFE-B1FC-A62FA4C1EC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E5E7B1-851E-433D-924A-5014F84252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47488-51B6-4A11-91F1-614A9B4504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BB377-0AAC-4F40-8359-9084651460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9C5F0-17CA-497F-BC08-68E1172ADC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8CF769-6CFF-4034-9DE7-DA74A9C2C4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1F69B-4009-4B53-9486-89CB096555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7403AF-23E3-4298-A53F-D30E164E80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FEE40-A4E4-4CEC-8C32-3B03EFED1A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Zahid Jamil</cp:lastModifiedBy>
  <dcterms:modified xsi:type="dcterms:W3CDTF">2017-10-16T08:48:29Z</dcterms:modified>
  <cp:revision>486</cp:revision>
  <dc:subject/>
  <dc:title>Introductory Cybercrime Training for Judges and Prosecutors</dc:title>
</cp:coreProperties>
</file>